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A99-2069-43AF-90FE-5EA256E5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55C-285E-4ECF-8B06-F6716925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33A-A77C-4868-9DC1-3023BA5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561-C6FA-41A8-A590-F6B6A82D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248-88D3-48EE-8671-8AD1F75C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67F-F290-45D9-80F8-26CE4A0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DC9-6798-4E50-A5D5-F838B6E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93F-311B-43BF-9C78-D429D60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A6B-87AB-4AEE-8F63-005AA59A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35F-019B-488D-A356-7554C56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0D4-F259-44D3-8D2F-466CC1F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C75-D755-4638-B652-681D840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2D9-DBB6-428F-8153-EAE40FE6A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472428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7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685800"/>
            <a:ext cx="26668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ar Interior (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1523880"/>
            <a:ext cx="26672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ar Atmosphere (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362320"/>
            <a:ext cx="2514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ar Wind (S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3200400"/>
            <a:ext cx="320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gnetosphere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4114800"/>
            <a:ext cx="23623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ng Current (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4114800"/>
            <a:ext cx="23623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ation Belt (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5029200"/>
            <a:ext cx="3657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nosphere (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6095880"/>
            <a:ext cx="32767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tral Atmosphere (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9680" y="7632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Parameters to be Passed Betwee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981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6576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5486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5486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365760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36576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724280" y="36576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57200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71800" y="457200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24280" y="45720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00440" y="45720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6400" y="20574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A-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720" y="29066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W-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0720" y="3733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C-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29120" y="36576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-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2880" y="3657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-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8200" y="37339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B-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2360" y="41911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-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04760" y="41911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O-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47242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O-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5640" y="48769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C-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9520" y="472428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-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7440" y="48769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-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6760" y="5715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O-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2040" y="5715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NA-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720" y="1219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I-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sirable Output of the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Physical Parameters”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sts of physical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passed between mode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I-SA, SA-SW, SW-MG, MG-IO, IO-MG, MG-RB, IO-RB, RG-MG, RB-IO, MG-RB, IO-RB, RG-MG, RB-IO, IO-NA, NA-IO,  …..)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sic L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nimum/Required/Si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dvanced L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deal/Everything that could possibly ever be of 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uidelines where the parameters should be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1519200"/>
            <a:ext cx="754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ar Interior to Solar Atmosphere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-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--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eve Led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ar Atmosphere to Solar Wind 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A-S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--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usan Odstr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ar Wind to Magnetosphere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W-M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--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John Ly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osphere to Ionosphere and back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G-IO, IO-M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--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aron Ridle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osphere, Ionosphere to Radiation Belt, Ring Current and back 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G-RB, IO-RB, RG-MG, RB-IO, MG-RB, IO-RB, RG-MG, RB-I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ei-Ching Fo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onosphere to Neutral Atmosphere and back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O-NA, NA-I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--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Joe H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7440" y="27936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Parameters to be Passed Betwee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23:48:44Z</dcterms:created>
  <dc:creator>Joyce McCarron</dc:creator>
  <dc:description/>
  <dc:language>en-US</dc:language>
  <cp:lastModifiedBy>afalasca</cp:lastModifiedBy>
  <dcterms:modified xsi:type="dcterms:W3CDTF">2002-07-16T17:47:56Z</dcterms:modified>
  <cp:revision>7</cp:revision>
  <dc:subject/>
  <dc:title>PowerPoint Presentation</dc:title>
</cp:coreProperties>
</file>