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CF4-82FF-4C0C-A569-D88278B1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30A-12BD-44CB-8E4E-49E9139E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F28-3C9A-4653-A6A0-3485FCD7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A26-E71B-4FB2-8A0C-212A741B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793-2597-4350-AE32-28474097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787-D25E-46F3-ABA6-36337657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443-F024-4AAE-BDCF-54E8E959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DEA-56ED-4939-A1A3-7F56DB0F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6D2-0578-4D83-AA57-654C0C17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411-D481-43BA-A097-998C83B3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DDA-1BD4-4EE6-8A9F-8C952F10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A22-1755-4DF2-8A43-DE3C8A08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871A-C901-4B64-9E6E-4192C2FF8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emen Bd BT"/>
              </a:rPr>
              <a:t>Global merged interaction regions in the three-dimensional heliosphere</a:t>
            </a:r>
            <a:r>
              <a:rPr b="0" lang="en-US" sz="3200" spc="-1" strike="noStrike">
                <a:solidFill>
                  <a:srgbClr val="ff0000"/>
                </a:solidFill>
                <a:latin typeface="Bremen Bd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4648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llegro BT"/>
              </a:rPr>
              <a:t>N.V. Pogorelov and G.P Za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llegro BT"/>
              </a:rPr>
              <a:t>Institute of Geophysics and Planetary Phys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llegro BT"/>
              </a:rPr>
              <a:t>University of California, River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533520"/>
            <a:ext cx="7467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Union of Geodesy and Geo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Association of Geomagnetism and Aer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Assembly, Toulouse, July 18-29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543-BFC7-4F81-BC5F-0A7C93DDDB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324480" cy="5629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3888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s 26-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47B-24C2-4AF7-9954-F8792F9CF9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dobe Garamond Pro Bold"/>
              </a:rPr>
              <a:t>Temperature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28960" y="1600200"/>
            <a:ext cx="50846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7AB-E4F1-4781-B0E2-3A6D912F3F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6246720" cy="5559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400" y="4572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utral hydrogen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914400"/>
            <a:ext cx="167652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s 1-2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 of snapshots at t=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1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4.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9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6.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2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2.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6.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457.5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814-AB04-406C-B43F-27F271432F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5867280" cy="522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391520" y="1447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s 26-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utral hydrogen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20F-9185-4513-B151-77E06CD9E1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dial distribution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different directions from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30400" y="1165320"/>
            <a:ext cx="508176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8080" y="6095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field slightly above the ecliptic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AEA-2E2A-490F-B948-CC2846CE07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172200" cy="5497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193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field slightly below the ecliptic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199-93FB-45E3-8B71-047B885731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457200"/>
            <a:ext cx="6191280" cy="5513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47920" y="60958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al velocity component slightly above the ecliptic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547-E1AA-448E-833D-7856A233E3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5564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7920" y="62485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field in the direction of Voyag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700-797C-4B6B-9199-18738F5C2F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572160" cy="5852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43000" y="62485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field in the direction of Voyag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829-9179-4648-9FD8-319912ADC2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172200" cy="5497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61722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field in the direction of Voy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3E3-240F-4AAB-B331-B97A64EE54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Talk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4479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144880"/>
            <a:ext cx="7924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merged interaction regions and their influence on the cosmic ray transport in the heliosp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c field distributions caused by a GMIR propag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ion of forward-reverse shock pai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R influence of neutral hydrogen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s to ISMF distributions in the outer heliosh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E45-8A47-4037-B33B-0520CFECA6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62040" y="609480"/>
            <a:ext cx="6019920" cy="536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6172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tral hydrogen density variation in the direction of Voyag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C91-2F89-45E5-A983-D42F993358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14680" y="609480"/>
            <a:ext cx="5715000" cy="5089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60199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sma temperature variation in the direction of Voyag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AD8-1D4A-400D-8FAB-5D524AC294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Lib Win95BT"/>
              </a:rPr>
              <a:t>Magnetic field and radial velocity distributions in the direction of Voyag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2066760"/>
            <a:ext cx="4038480" cy="3591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2066760"/>
            <a:ext cx="4038480" cy="35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EC1-DAE4-481D-A4B6-273E2AF64F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ithograph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9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752480"/>
            <a:ext cx="769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We performed 3D calculations of the GMIR propagation while taking into account both interplanetary and interstellar magnetic fields. Neutral hydrogen atoms are modeled using the multi-fluid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GMIRs create moving magnetic barriers in the solar wind region that are comparable or stronger than the compressed IMF at the inner side of the heliopa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Bending of the HCS and/or IMF-ISMF lines reconnection cause substantial asymmetries in the time-dependent parameter distribution with respect to the ecliptic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Perturbations of the heliopause lead to a noticeable increase in the ISMF strength in the outer heliosh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369-7392-4567-B200-B3F6DED5AA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ree-dimensional structure of the heliosphere in the presence of the IMF and I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71880" y="1676520"/>
            <a:ext cx="4800600" cy="2533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4572000"/>
            <a:ext cx="80769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assume the SW to be spherically symmetric at the inner boundary and initially s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450 km/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7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73600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Porky's"/>
              </a:rPr>
              <a:t>In the LISM we pu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5 km/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07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1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.5 µG. The direction of the ISMF is not well known and remains a parameter of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CA8-982F-49E4-A76A-5523B459E5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Porky's"/>
              </a:rPr>
              <a:t>GMIR propa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371600"/>
            <a:ext cx="73915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slow solar wind is followed by the faster wind, the overtaking of streams may lead to the formation of a strong shock (Parker, 1963)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Parker’s spiral IMF becomes distor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esence of both forward and reverse shocks was suggest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Dessler &amp; Fejer (1963) and Sonett &amp; Colburn (1965). The analytical gas dynamic model of this kind of flows was developed by Simon &amp; Axford (1966). Hundhousen &amp; Gosling (1976) used such models to identify shock pairs in Pioneer speed pro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ng &amp; Burlaga (1988) used a 1D MHD simulation model by Whang (1984) to extrapolate the solar wind conditions observed from Voyager 2 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14 AU to the TS region, where forward-reverse shock pairs are interacting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9C7-E3A1-4B4E-9D64-3CEE1E6A77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685800"/>
            <a:ext cx="7696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step decreases in the CR modulation cycle are coupled to GMIRs, which are mainly associated with systems of transients near the Sun. The transient streams merge in such a way that beyo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AU large-scale GMIRs form from overlapping MIRs which persist over several solar rotations, surround the Sun near the ecliptic plane, and stretch at least 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in heliolatitude above the equatorial plan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rlaga (1993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e we investigate the interaction of the steady-state solution for the heliospheric structure with a model spherically symmetric perturbation in the SW velocity, which increases 3 times within 60 days and then returns to its initial value in 60 another day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0040" y="4419720"/>
            <a:ext cx="6343920" cy="13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925-2E81-43BA-815F-015E4435B3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gnetic field distribution caused by the GMIR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508464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81680" y="1295280"/>
            <a:ext cx="1981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s 1-2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 of snapshots at t=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1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4.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9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6.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2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2.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6.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457.5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A41-EB81-418F-AB87-FDD2D4DA6A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922320"/>
            <a:ext cx="5634000" cy="5013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86600" y="18288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rst 25 frames at twice larger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B8E-8FCB-4189-84C4-3D1329570A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615960"/>
            <a:ext cx="6319800" cy="562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162920" y="1523880"/>
            <a:ext cx="1600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next 50 time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field scaling is different from the previous two sli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003-E97E-446B-A28F-C84B6CB0F3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6091200" cy="542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71600" y="457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ns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209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s 1-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B61-B484-4223-BDA9-AB2C90F429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23:31:27Z</dcterms:created>
  <dc:creator>Nikolai Pogorelov</dc:creator>
  <dc:description/>
  <dc:language>en-US</dc:language>
  <cp:lastModifiedBy>Nikolai Pogorelov</cp:lastModifiedBy>
  <dcterms:modified xsi:type="dcterms:W3CDTF">2005-07-19T07:25:24Z</dcterms:modified>
  <cp:revision>20</cp:revision>
  <dc:subject/>
  <dc:title>GMIR propagation through the three-dimensional heliosphere</dc:title>
</cp:coreProperties>
</file>