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66F-3DD1-40E5-9CA2-A4FF327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349-0FD4-4EB4-B8EE-F65E195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CC6-8127-42C1-9159-E24FE983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142-5F5D-4796-82C9-EA8E0887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BB8-999B-4438-9CC3-16A4656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81A-B7EB-402A-89E8-9EBAAE96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8F2-9F60-4CBB-A37E-693A05B3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4DC-862E-4CBE-BADD-CA6769F0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4C8-021F-4C06-9131-0DEDB62A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CF4-6D60-45B8-8405-E576456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CB9-5DAA-4E8F-80BC-EC353E2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837-E7E5-42CC-BD6D-451F7C9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2CCB-F7BA-401D-B7C3-F5D7D9F4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emen Bd BT"/>
              </a:rPr>
              <a:t>Global merged interaction regions in the three-dimensional heliosphere</a:t>
            </a:r>
            <a:r>
              <a:rPr b="0" lang="en-US" sz="3200" spc="-1" strike="noStrike">
                <a:solidFill>
                  <a:srgbClr val="ff0000"/>
                </a:solidFill>
                <a:latin typeface="Bremen B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4648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N.V. Pogorelov and G.P Z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Institute of Geophysics and Planetary Phys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llegro BT"/>
              </a:rPr>
              <a:t>University of California, Riv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33520"/>
            <a:ext cx="7467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Union of Geodesy and Geo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Association of Geomagnetism and Ae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Assembly, Toulouse, July 18-29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F36-18FC-42CA-B0A7-075F78CA0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324480" cy="562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3888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26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19D-F855-485E-9498-8585389096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dobe Garamond Pro Bold"/>
              </a:rPr>
              <a:t>Temperature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28960" y="1600200"/>
            <a:ext cx="50846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26B-70A0-42C5-930A-E0FF8B5211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246720" cy="5559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4572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eutral hydrogen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914400"/>
            <a:ext cx="167652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snapshots at t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1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4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9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6.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2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6.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457.5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AF9-383F-46E9-9976-19B1A52A8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5867280" cy="522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91520" y="1447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26-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utral hydrogen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27D-3359-4919-B061-3A9D95D34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dial distribu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different directions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30400" y="1165320"/>
            <a:ext cx="508176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6095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lightly above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0CF-C34D-4BBA-9E55-A64608DA2B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172200" cy="5497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lightly below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B18-9A76-428C-AD00-D3E2ABD797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76360" y="457200"/>
            <a:ext cx="6191280" cy="5513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60958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l velocity component slightly above the ecliptic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778-AB48-46D7-9396-301048C834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5564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79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305-D305-4849-BCC5-476B89ABAA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572160" cy="58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43000" y="6248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EC3-BF43-428D-8FA6-394FA8604B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172200" cy="549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6172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in the direction of Voy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053-4E01-4DF1-8FA1-04EB93074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alk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4479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14488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merged interaction regions and their influence on the cosmic ray transport in the heliosp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field distributions caused by a GMIR propa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ion of forward-reverse shock p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R influence of neutral hydro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to ISMF distributions in the outer heliosh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289-BF3F-4DFB-B195-F39B9B8EF3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62040" y="609480"/>
            <a:ext cx="6019920" cy="536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6172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 hydrogen density variation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449-B335-4D89-9155-F3B3FFDD18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14680" y="609480"/>
            <a:ext cx="5715000" cy="508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6019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 temperature variation in the direction of Voyag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F94-EF2A-4FD0-9A47-3653F4708F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Lib Win95BT"/>
              </a:rPr>
              <a:t>Magnetic field and radial velocity distributions in the direction of Voyag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066760"/>
            <a:ext cx="4038480" cy="359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066760"/>
            <a:ext cx="4038480" cy="35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EDD-57CB-4BCD-855B-69C0F9832F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ithograph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9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75248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We performed 3D calculations of the GMIR propagation while taking into account both interplanetary and interstellar magnetic fields. Neutral hydrogen atoms are modeled using the multi-fluid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GMIRs create moving magnetic barriers in the solar wind region that are comparable or stronger than the compressed IMF at the inner side of the heliop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Bending of the HCS and/or IMF-ISMF lines reconnection cause substantial asymmetries in the time-dependent parameter distribution with respect to the ecliptic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Perturbations of the heliopause lead to a noticeable increase in the ISMF strength in the outer heliosh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889-CD7B-4A97-8292-BA7F825536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ree-dimensional structure of the heliosphere in the presence of the IMF and I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71880" y="1676520"/>
            <a:ext cx="4800600" cy="253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4572000"/>
            <a:ext cx="80769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ssume the SW to be spherically symmetric at the inner boundary and initially s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50 km/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3600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Porky's"/>
              </a:rPr>
              <a:t>In the LISM we pu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km/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07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.5 µG. The direction of the ISMF is not well known and remains a parameter of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52C-170C-4708-82D7-8A41FA422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orky's"/>
              </a:rPr>
              <a:t>GMIR 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73915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low solar wind is followed by the faster wind, the overtaking of streams may lead to the formation of a strong shock (Parker, 1963)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Parker’s spiral IMF becomes distor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esence of both forward and reverse shocks was suggest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Dessler &amp; Fejer (1963) and Sonett &amp; Colburn (1965). The analytical gas dynamic model of this kind of flows was developed by Simon &amp; Axford (1966). Hundhousen &amp; Gosling (1976) used such models to identify shock pairs in Pioneer speed pro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ng &amp; Burlaga (1988) used a 1D MHD simulation model by Whang (1984) to extrapolate the solar wind conditions observed from Voyager 2 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4 AU to the TS region, where forward-reverse shock pairs are interacting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A44-3611-42FB-BFC4-AD0B0CDA21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685800"/>
            <a:ext cx="7696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tep decreases in the CR modulation cycle are coupled to GMIRs, which are mainly associated with systems of transients near the Sun. The transient streams merge in such a way that beyo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AU large-scale GMIRs form from overlapping MIRs which persist over several solar rotations, surround the Sun near the ecliptic plane, and stretch at least 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in heliolatitude above the equatorial pla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laga (1993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we investigate the interaction of the steady-state solution for the heliospheric structure with a model spherically symmetric perturbation in the SW velocity, which increases 3 times within 60 days and then returns to its initial value in 60 another day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0040" y="4419720"/>
            <a:ext cx="634392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A3A-C702-484D-8098-217A87130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gnetic field distribution caused by the GMIR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508464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81680" y="1295280"/>
            <a:ext cx="1981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snapshots at t=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1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4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9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6.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2.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2.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6.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457.5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C0E-6107-4313-8F9F-C7EEC4FA1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922320"/>
            <a:ext cx="5634000" cy="501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86600" y="18288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25 frames at twice larger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217-3FBC-486F-B4EA-B202C20A50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615960"/>
            <a:ext cx="6319800" cy="562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62920" y="1523880"/>
            <a:ext cx="1600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next 50 time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field scaling is different from the previous two sli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2E0-14FE-43BD-8EE9-CC67273CCA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091200" cy="542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57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s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209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mes 1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501-9B24-4A4E-BC5F-81AFBB8BA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1:27Z</dcterms:created>
  <dc:creator>Nikolai Pogorelov</dc:creator>
  <dc:description/>
  <dc:language>en-US</dc:language>
  <cp:lastModifiedBy>Nikolai Pogorelov</cp:lastModifiedBy>
  <dcterms:modified xsi:type="dcterms:W3CDTF">2005-07-19T07:25:24Z</dcterms:modified>
  <cp:revision>20</cp:revision>
  <dc:subject/>
  <dc:title>GMIR propagation through the three-dimensional heliosphere</dc:title>
</cp:coreProperties>
</file>