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462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462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462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462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462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462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2193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2193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462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462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462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462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2193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462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77320" y="29718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footer" descr=""/>
          <p:cNvPicPr/>
          <p:nvPr/>
        </p:nvPicPr>
        <p:blipFill>
          <a:blip r:embed="rId2"/>
          <a:stretch/>
        </p:blipFill>
        <p:spPr>
          <a:xfrm>
            <a:off x="0" y="6262560"/>
            <a:ext cx="914076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8077320" y="297180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62485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igh Altitude Observatory (HAO) – National Center for Atmospheric Research (NC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tional Center for Atmospheric Research is operated by the University Corporation for Atmospheric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sponsorship of the National Science Foundation. An Equal Opportunity/Affirmative Action Employer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head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ncar_logo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23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6045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AR DYNAMO MODEL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09104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ausumi Dikpati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 Altitude Observatory, NCA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2280" y="40384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Construction of surface poloidal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surface-source" descr=""/>
          <p:cNvPicPr/>
          <p:nvPr/>
        </p:nvPicPr>
        <p:blipFill>
          <a:blip r:embed="rId1"/>
          <a:stretch/>
        </p:blipFill>
        <p:spPr>
          <a:xfrm>
            <a:off x="1324080" y="590400"/>
            <a:ext cx="6126120" cy="4172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30760" y="5159520"/>
            <a:ext cx="666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Time-variation of poloidal source function within a single sunspot-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derived from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Construction of surface poloidal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6720" y="1365120"/>
            <a:ext cx="5786640" cy="3221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1352520"/>
            <a:ext cx="2687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orrelation between photospheric flux and spo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figure_new_color" descr=""/>
          <p:cNvPicPr/>
          <p:nvPr/>
        </p:nvPicPr>
        <p:blipFill>
          <a:blip r:embed="rId1"/>
          <a:stretch/>
        </p:blipFill>
        <p:spPr>
          <a:xfrm>
            <a:off x="1784520" y="919080"/>
            <a:ext cx="54752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 Black"/>
              </a:rPr>
              <a:t>Construction of surface poloidal source (contd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stretched_area" descr=""/>
          <p:cNvPicPr/>
          <p:nvPr/>
        </p:nvPicPr>
        <p:blipFill>
          <a:blip r:embed="rId1"/>
          <a:stretch/>
        </p:blipFill>
        <p:spPr>
          <a:xfrm>
            <a:off x="863640" y="3218040"/>
            <a:ext cx="7294680" cy="3246120"/>
          </a:xfrm>
          <a:prstGeom prst="rect">
            <a:avLst/>
          </a:prstGeom>
          <a:ln w="0">
            <a:noFill/>
          </a:ln>
        </p:spPr>
      </p:pic>
      <p:pic>
        <p:nvPicPr>
          <p:cNvPr id="199" name="obs_cycle12to23b" descr=""/>
          <p:cNvPicPr/>
          <p:nvPr/>
        </p:nvPicPr>
        <p:blipFill>
          <a:blip r:embed="rId2"/>
          <a:stretch/>
        </p:blipFill>
        <p:spPr>
          <a:xfrm>
            <a:off x="1405080" y="512640"/>
            <a:ext cx="6881760" cy="2725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59360" y="357660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Period adjusted to averag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26600" y="69840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Original data (from Hatha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5840" y="373068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solar cycles (N+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Arial Black"/>
              </a:rPr>
              <a:t>Simulating sequence of cycles 12 through 23 and predicting cycle 2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82760" y="6532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63600" y="2492280"/>
            <a:ext cx="9720" cy="3784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164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obs_cycle12to23b" descr=""/>
          <p:cNvPicPr/>
          <p:nvPr/>
        </p:nvPicPr>
        <p:blipFill>
          <a:blip r:embed="rId1"/>
          <a:stretch/>
        </p:blipFill>
        <p:spPr>
          <a:xfrm>
            <a:off x="322200" y="611280"/>
            <a:ext cx="4908600" cy="2725560"/>
          </a:xfrm>
          <a:prstGeom prst="rect">
            <a:avLst/>
          </a:prstGeom>
          <a:ln w="0">
            <a:noFill/>
          </a:ln>
        </p:spPr>
      </p:pic>
      <p:pic>
        <p:nvPicPr>
          <p:cNvPr id="208" name="simulated_12to24" descr=""/>
          <p:cNvPicPr/>
          <p:nvPr/>
        </p:nvPicPr>
        <p:blipFill>
          <a:blip r:embed="rId2"/>
          <a:stretch/>
        </p:blipFill>
        <p:spPr>
          <a:xfrm>
            <a:off x="417600" y="3354480"/>
            <a:ext cx="4944960" cy="26352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849600" y="5262480"/>
            <a:ext cx="4165920" cy="347040"/>
            <a:chOff x="849600" y="5262480"/>
            <a:chExt cx="4165920" cy="347040"/>
          </a:xfrm>
        </p:grpSpPr>
        <p:sp>
          <p:nvSpPr>
            <p:cNvPr id="210" name=""/>
            <p:cNvSpPr/>
            <p:nvPr/>
          </p:nvSpPr>
          <p:spPr>
            <a:xfrm>
              <a:off x="3681720" y="5288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10400" y="5294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83280" y="5281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2000" y="5283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1240" y="52833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3440" y="5300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94480" y="5288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0720" y="53024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0520" y="5278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4800" y="5262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9960" y="5286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32200" y="5286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9600" y="5284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49960" y="2600280"/>
            <a:ext cx="3851640" cy="330840"/>
            <a:chOff x="849960" y="2600280"/>
            <a:chExt cx="3851640" cy="330840"/>
          </a:xfrm>
        </p:grpSpPr>
        <p:sp>
          <p:nvSpPr>
            <p:cNvPr id="224" name=""/>
            <p:cNvSpPr/>
            <p:nvPr/>
          </p:nvSpPr>
          <p:spPr>
            <a:xfrm>
              <a:off x="3682080" y="2610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10400" y="2616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83640" y="26035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2360" y="2604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21600" y="26049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3440" y="2622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94480" y="2610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00720" y="2624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0880" y="26002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9960" y="2608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2560" y="2608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9960" y="2606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930600" y="8445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d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2560" y="3664080"/>
            <a:ext cx="367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Based on successful simulation of past cycle peaks , we predict that the peak amplitude of cycle 24 will be 1.2-1.5 times stronger than cycle 23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896760"/>
            <a:ext cx="3740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Dynamo correctly predicts sequence of relative cycle peaks for cycles 16 through 23; cycles 12-15 are used to build the Sun’s memory of its magnetic 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orrelation of observed and predicted cycle p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scatter-totfit" descr=""/>
          <p:cNvPicPr/>
          <p:nvPr/>
        </p:nvPicPr>
        <p:blipFill>
          <a:blip r:embed="rId1"/>
          <a:stretch/>
        </p:blipFill>
        <p:spPr>
          <a:xfrm>
            <a:off x="0" y="387360"/>
            <a:ext cx="3300480" cy="2975040"/>
          </a:xfrm>
          <a:prstGeom prst="rect">
            <a:avLst/>
          </a:prstGeom>
          <a:ln w="0">
            <a:noFill/>
          </a:ln>
        </p:spPr>
      </p:pic>
      <p:pic>
        <p:nvPicPr>
          <p:cNvPr id="241" name="scatter-delfit" descr=""/>
          <p:cNvPicPr/>
          <p:nvPr/>
        </p:nvPicPr>
        <p:blipFill>
          <a:blip r:embed="rId2"/>
          <a:stretch/>
        </p:blipFill>
        <p:spPr>
          <a:xfrm>
            <a:off x="0" y="3316320"/>
            <a:ext cx="3300480" cy="2975040"/>
          </a:xfrm>
          <a:prstGeom prst="rect">
            <a:avLst/>
          </a:prstGeom>
          <a:ln w="0">
            <a:noFill/>
          </a:ln>
        </p:spPr>
      </p:pic>
      <p:pic>
        <p:nvPicPr>
          <p:cNvPr id="242" name="scatter-random" descr=""/>
          <p:cNvPicPr/>
          <p:nvPr/>
        </p:nvPicPr>
        <p:blipFill>
          <a:blip r:embed="rId3"/>
          <a:stretch/>
        </p:blipFill>
        <p:spPr>
          <a:xfrm>
            <a:off x="5843520" y="460440"/>
            <a:ext cx="3300480" cy="2975040"/>
          </a:xfrm>
          <a:prstGeom prst="rect">
            <a:avLst/>
          </a:prstGeom>
          <a:ln w="0">
            <a:noFill/>
          </a:ln>
        </p:spPr>
      </p:pic>
      <p:pic>
        <p:nvPicPr>
          <p:cNvPr id="243" name="scatter-delran" descr=""/>
          <p:cNvPicPr/>
          <p:nvPr/>
        </p:nvPicPr>
        <p:blipFill>
          <a:blip r:embed="rId4"/>
          <a:stretch/>
        </p:blipFill>
        <p:spPr>
          <a:xfrm>
            <a:off x="5843520" y="3317760"/>
            <a:ext cx="3300480" cy="2975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00480" y="662040"/>
            <a:ext cx="2438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Left column: Observed cycle peaks  derived from spot-area statistics; predicted cycle peaks from dynamo-generated toroidal magnetic flux at the base of the convection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Right column: cycle peaks predicted from random sunspot area peaks, showing no predictive sk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Lower frames show correlation of differences between consecutive cy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Can we go beyond decadal time-sc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4040" y="5091120"/>
            <a:ext cx="735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aunder minimum is the absence of sunspots, but not the absence of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sun_sunspots_yearly" descr=""/>
          <p:cNvPicPr/>
          <p:nvPr/>
        </p:nvPicPr>
        <p:blipFill>
          <a:blip r:embed="rId1"/>
          <a:stretch/>
        </p:blipFill>
        <p:spPr>
          <a:xfrm>
            <a:off x="237960" y="2070000"/>
            <a:ext cx="8556840" cy="2703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82520" y="69048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Can we predict Maunder minima or Medieval max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138240" y="770040"/>
            <a:ext cx="887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Flux-transport dynamo driven by observed surface poloidal source shows definite skill in reproducing sequence of cycle peaks from previous cy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5000" y="33861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We also showed that a randomized surface poloidal source leads to no predictive ski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360" y="1906560"/>
            <a:ext cx="833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Based on that result, we predict that the average amplitude of cycle 24 will be 1.2-1.5 times stronger than cycle 23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521240"/>
            <a:ext cx="900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a50021"/>
                </a:solidFill>
                <a:latin typeface="Arial Narrow"/>
              </a:rPr>
              <a:t>The Future: separate predictions for N and S hemispheres; predictions for cycles earlier than 12 from earlier sunspot data; reconstructing the rise and fall pattern of individual cycles; incorporating estimates of variable meridional circulation speed; building deterministic model for simulating Maunder min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ROSPECTS</a:t>
            </a:r>
            <a:endParaRPr b="0" lang="en-US" sz="28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06480"/>
            <a:ext cx="809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Core part of the code for dynamo simulation is small (~10,000 lin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184560"/>
            <a:ext cx="835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It is already being used by Evergreen College, and by Monash University solar physics grou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452840"/>
            <a:ext cx="832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Can be used for studying the large-scale coronal magnetic structure in conjunction with cyclic interior magnetic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6160" y="2003400"/>
            <a:ext cx="638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 Narrow"/>
              </a:rPr>
              <a:t>Involves semi-implicit scheme; fast, easy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Random vs. persistent, cyclic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7360" y="12492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70280"/>
            <a:ext cx="263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24160"/>
            <a:ext cx="51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Times New Roman"/>
              </a:rPr>
              <a:t>butterfly diagram, polar reversal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7880" y="539640"/>
            <a:ext cx="370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Times New Roman"/>
              </a:rPr>
              <a:t>mixed-polarity turbulent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magbfly_cropped" descr=""/>
          <p:cNvPicPr/>
          <p:nvPr/>
        </p:nvPicPr>
        <p:blipFill>
          <a:blip r:embed="rId1"/>
          <a:stretch/>
        </p:blipFill>
        <p:spPr>
          <a:xfrm>
            <a:off x="0" y="3651120"/>
            <a:ext cx="5514840" cy="2589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29360" y="607860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From D.H. Hath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80" y="1514520"/>
            <a:ext cx="127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T. B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EB_10jul97_gband" descr=""/>
          <p:cNvPicPr/>
          <p:nvPr/>
        </p:nvPicPr>
        <p:blipFill>
          <a:blip r:embed="rId2"/>
          <a:stretch/>
        </p:blipFill>
        <p:spPr>
          <a:xfrm>
            <a:off x="1457280" y="979560"/>
            <a:ext cx="2203560" cy="2203200"/>
          </a:xfrm>
          <a:prstGeom prst="rect">
            <a:avLst/>
          </a:prstGeom>
          <a:ln w="0">
            <a:noFill/>
          </a:ln>
        </p:spPr>
      </p:pic>
      <p:pic>
        <p:nvPicPr>
          <p:cNvPr id="94" name="detoma_fig" descr=""/>
          <p:cNvPicPr/>
          <p:nvPr/>
        </p:nvPicPr>
        <p:blipFill>
          <a:blip r:embed="rId3"/>
          <a:stretch/>
        </p:blipFill>
        <p:spPr>
          <a:xfrm>
            <a:off x="4786200" y="741240"/>
            <a:ext cx="4357800" cy="541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65560" y="60706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 Narrow"/>
              </a:rPr>
              <a:t>From G. de 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79240" y="358920"/>
            <a:ext cx="208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Times New Roman"/>
              </a:rPr>
              <a:t>active longitu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349880"/>
            <a:ext cx="33368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i) Generation of toroidal field by shearing a pre-existing poloidal field by differential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Ω-effec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62400" y="4367160"/>
            <a:ext cx="2971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ii) Re-generation of poloidal field by lifting and twisting a toroidal flux tube by helical turbul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α-ef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1520" y="474840"/>
            <a:ext cx="2979720" cy="3146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0400" y="676440"/>
            <a:ext cx="2486160" cy="2377800"/>
          </a:xfrm>
          <a:prstGeom prst="rect">
            <a:avLst/>
          </a:prstGeom>
          <a:ln w="0">
            <a:noFill/>
          </a:ln>
        </p:spPr>
      </p:pic>
      <p:pic>
        <p:nvPicPr>
          <p:cNvPr id="101" name="f1" descr=""/>
          <p:cNvPicPr/>
          <p:nvPr/>
        </p:nvPicPr>
        <p:blipFill>
          <a:blip r:embed="rId3"/>
          <a:stretch/>
        </p:blipFill>
        <p:spPr>
          <a:xfrm>
            <a:off x="5959440" y="700200"/>
            <a:ext cx="2998800" cy="2962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443640" y="4371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iii) Flux transport by meridional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X-TRANSPORT DYN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80440" y="581328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Wang &amp; Sheeley, 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95480" y="609300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nd then many others, including 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116800">
            <a:off x="7671600" y="1258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gredients of a Calibrated Flux-transport Dynamo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taprof_col" descr=""/>
          <p:cNvPicPr/>
          <p:nvPr/>
        </p:nvPicPr>
        <p:blipFill>
          <a:blip r:embed="rId1"/>
          <a:stretch/>
        </p:blipFill>
        <p:spPr>
          <a:xfrm>
            <a:off x="4352760" y="1684440"/>
            <a:ext cx="4457880" cy="3417840"/>
          </a:xfrm>
          <a:prstGeom prst="rect">
            <a:avLst/>
          </a:prstGeom>
          <a:ln w="0">
            <a:noFill/>
          </a:ln>
        </p:spPr>
      </p:pic>
      <p:pic>
        <p:nvPicPr>
          <p:cNvPr id="110" name="schem_ful" descr=""/>
          <p:cNvPicPr/>
          <p:nvPr/>
        </p:nvPicPr>
        <p:blipFill>
          <a:blip r:embed="rId2"/>
          <a:stretch/>
        </p:blipFill>
        <p:spPr>
          <a:xfrm>
            <a:off x="582480" y="1006560"/>
            <a:ext cx="2651400" cy="424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16200000">
            <a:off x="-82080" y="1227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-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68040" y="465588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-P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" y="2692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Narrow"/>
              </a:rPr>
              <a:t>Red: </a:t>
            </a: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α</a:t>
            </a:r>
            <a:r>
              <a:rPr b="0" lang="en-US" sz="1800" spc="-1" strike="noStrike">
                <a:solidFill>
                  <a:srgbClr val="cc0000"/>
                </a:solidFill>
                <a:latin typeface="Arial Narrow"/>
              </a:rPr>
              <a:t> -effect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71800"/>
            <a:ext cx="22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 Narrow"/>
              </a:rPr>
              <a:t>Green: rotation cont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520" y="327672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Blue: meridional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1040" y="892080"/>
            <a:ext cx="2778120" cy="5130720"/>
          </a:xfrm>
          <a:prstGeom prst="rect">
            <a:avLst/>
          </a:prstGeom>
          <a:ln w="0">
            <a:noFill/>
          </a:ln>
        </p:spPr>
      </p:pic>
      <p:pic>
        <p:nvPicPr>
          <p:cNvPr id="117" name="f9a" descr=""/>
          <p:cNvPicPr/>
          <p:nvPr/>
        </p:nvPicPr>
        <p:blipFill>
          <a:blip r:embed="rId2"/>
          <a:stretch/>
        </p:blipFill>
        <p:spPr>
          <a:xfrm>
            <a:off x="3755880" y="1612800"/>
            <a:ext cx="5139000" cy="2262240"/>
          </a:xfrm>
          <a:prstGeom prst="rect">
            <a:avLst/>
          </a:prstGeom>
          <a:ln w="0">
            <a:noFill/>
          </a:ln>
        </p:spPr>
      </p:pic>
      <p:pic>
        <p:nvPicPr>
          <p:cNvPr id="118" name="f8" descr=""/>
          <p:cNvPicPr/>
          <p:nvPr/>
        </p:nvPicPr>
        <p:blipFill>
          <a:blip r:embed="rId3"/>
          <a:stretch/>
        </p:blipFill>
        <p:spPr>
          <a:xfrm>
            <a:off x="4106880" y="3892680"/>
            <a:ext cx="4729320" cy="2158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78200" y="928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Contours: toroidal fields at CZ base Gray-shades: surface radial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65640" y="6043680"/>
            <a:ext cx="57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Narrow"/>
              </a:rPr>
              <a:t>Observed NSO map of longitude-averaged photospheric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600" y="0"/>
            <a:ext cx="59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Calibrated flux-transport dynamo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400" y="38268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 Narrow"/>
              </a:rPr>
              <a:t>(Dikpati, de Toma, Gilman, Arge &amp; White, 2004, ApJ, 601, 11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eculiar” Features Of Cycle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90720" y="1295280"/>
            <a:ext cx="6172560" cy="3446640"/>
            <a:chOff x="990720" y="1295280"/>
            <a:chExt cx="6172560" cy="3446640"/>
          </a:xfrm>
        </p:grpSpPr>
        <p:grpSp>
          <p:nvGrpSpPr>
            <p:cNvPr id="125" name=""/>
            <p:cNvGrpSpPr/>
            <p:nvPr/>
          </p:nvGrpSpPr>
          <p:grpSpPr>
            <a:xfrm>
              <a:off x="3808440" y="2321280"/>
              <a:ext cx="2363040" cy="434160"/>
              <a:chOff x="3808440" y="2321280"/>
              <a:chExt cx="2363040" cy="434160"/>
            </a:xfrm>
          </p:grpSpPr>
          <p:sp>
            <p:nvSpPr>
              <p:cNvPr id="126" name=""/>
              <p:cNvSpPr/>
              <p:nvPr/>
            </p:nvSpPr>
            <p:spPr>
              <a:xfrm>
                <a:off x="3808440" y="2321280"/>
                <a:ext cx="509400" cy="3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88600" y="2321280"/>
                <a:ext cx="1982880" cy="4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694160" y="1333080"/>
              <a:ext cx="5469120" cy="2988000"/>
              <a:chOff x="1694160" y="1333080"/>
              <a:chExt cx="5469120" cy="298800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4160" y="1333080"/>
                <a:ext cx="5469120" cy="298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2066760" y="3402360"/>
                <a:ext cx="3416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88800" y="3442680"/>
                <a:ext cx="16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47560" y="3402360"/>
                <a:ext cx="3416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69600" y="3442680"/>
                <a:ext cx="16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1000" y="3402360"/>
                <a:ext cx="3416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11240" y="3442680"/>
                <a:ext cx="16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09520" y="3402360"/>
                <a:ext cx="3416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31560" y="3442680"/>
                <a:ext cx="16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90320" y="3456720"/>
                <a:ext cx="3416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12360" y="3494520"/>
                <a:ext cx="162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564280" y="1547280"/>
              <a:ext cx="1603440" cy="721800"/>
              <a:chOff x="2564280" y="1547280"/>
              <a:chExt cx="1603440" cy="72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2564280" y="1547280"/>
                <a:ext cx="1603440" cy="7218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51280" y="1594440"/>
                <a:ext cx="86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unspot Numb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20720" y="1812240"/>
                <a:ext cx="439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onth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441600" y="2028600"/>
                <a:ext cx="517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mooth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88840" y="1915920"/>
                <a:ext cx="434520" cy="201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88840" y="2131920"/>
                <a:ext cx="434520" cy="19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129040" y="4267800"/>
              <a:ext cx="4958640" cy="474120"/>
              <a:chOff x="2129040" y="4267800"/>
              <a:chExt cx="4958640" cy="474120"/>
            </a:xfrm>
          </p:grpSpPr>
          <p:sp>
            <p:nvSpPr>
              <p:cNvPr id="148" name=""/>
              <p:cNvSpPr/>
              <p:nvPr/>
            </p:nvSpPr>
            <p:spPr>
              <a:xfrm>
                <a:off x="2129040" y="4267800"/>
                <a:ext cx="4842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44960" y="43124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47560" y="4267800"/>
                <a:ext cx="4842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67800" y="43124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81560" y="4267800"/>
                <a:ext cx="4842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00720" y="43124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00080" y="4299120"/>
                <a:ext cx="4842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20680" y="43441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03480" y="4267800"/>
                <a:ext cx="48420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23720" y="43124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55400" y="4483080"/>
                <a:ext cx="100692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23800" y="4528440"/>
                <a:ext cx="91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ime (year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990720" y="1295280"/>
              <a:ext cx="731160" cy="3105000"/>
              <a:chOff x="990720" y="1295280"/>
              <a:chExt cx="731160" cy="3105000"/>
            </a:xfrm>
          </p:grpSpPr>
          <p:sp>
            <p:nvSpPr>
              <p:cNvPr id="161" name=""/>
              <p:cNvSpPr/>
              <p:nvPr/>
            </p:nvSpPr>
            <p:spPr>
              <a:xfrm>
                <a:off x="1321200" y="1295280"/>
                <a:ext cx="40068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36400" y="13381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21200" y="1781640"/>
                <a:ext cx="40068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36400" y="18219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21200" y="2407680"/>
                <a:ext cx="40068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3640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21200" y="3024720"/>
                <a:ext cx="40068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36400" y="3067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83120" y="3619080"/>
                <a:ext cx="31752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96520" y="3661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0520" y="4159440"/>
                <a:ext cx="235440" cy="2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9600" y="4202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200000">
                <a:off x="617760" y="2664000"/>
                <a:ext cx="959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pot Numb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3341160" y="7621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 Black"/>
              </a:rPr>
              <a:t>Sunspot index 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53000" y="928800"/>
            <a:ext cx="65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nthly (blue) &amp; monthly smoothed (red) sunspot numbers for the latest five cyc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4800600"/>
            <a:ext cx="657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Rise of this cycle was slow compared to other odd cy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21840" y="5257800"/>
            <a:ext cx="45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It never reached the </a:t>
            </a:r>
            <a:r>
              <a:rPr b="1" i="1" lang="en-US" sz="2200" spc="-1" strike="noStrike">
                <a:solidFill>
                  <a:srgbClr val="008000"/>
                </a:solidFill>
                <a:latin typeface="Arial Narrow"/>
              </a:rPr>
              <a:t>expected</a:t>
            </a: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 str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6440" y="5715000"/>
            <a:ext cx="60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8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It showed a second peak during its declining phas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 Narrow"/>
              </a:rPr>
              <a:t>unusual for an odd 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600880" y="1655640"/>
            <a:ext cx="30715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 Narrow"/>
              </a:rPr>
              <a:t>We postulate that  “magnetic persistence”, or the duration of the Sun’s “memory” of its own magnetic field, is controlled by meridional circul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f1" descr=""/>
          <p:cNvPicPr/>
          <p:nvPr/>
        </p:nvPicPr>
        <p:blipFill>
          <a:blip r:embed="rId1"/>
          <a:stretch/>
        </p:blipFill>
        <p:spPr>
          <a:xfrm>
            <a:off x="311040" y="1189080"/>
            <a:ext cx="4446720" cy="4389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42840" y="0"/>
            <a:ext cx="72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Flux-transport Dynamo-based Predic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19160"/>
            <a:ext cx="880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Polar fields are the continuous solar wind sources that interact with earth’s magnetosphere; accurate prediction of the Sun’s polar field is impor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78440" y="1617840"/>
            <a:ext cx="3919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Weak poloidal sources are the causes of major slow-down in cycle 23 polar re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High-latitude reversed (equatorward) meridional flow  in N-hemisphere is the cause of N-pole reversing ~1yr before S-p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6_col" descr=""/>
          <p:cNvPicPr/>
          <p:nvPr/>
        </p:nvPicPr>
        <p:blipFill>
          <a:blip r:embed="rId1"/>
          <a:stretch/>
        </p:blipFill>
        <p:spPr>
          <a:xfrm>
            <a:off x="504720" y="762120"/>
            <a:ext cx="3765600" cy="5481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402360" y="61596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 Narrow"/>
              </a:rPr>
              <a:t>(Dikpati, de Toma, Gilman, Arge &amp; White, 2004, ApJ, 601, 11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5000" y="826920"/>
            <a:ext cx="88646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EDICTING PEAK AMPLITUDES OF SOLAR CYCLES 12 THROUGH 24 WITH A FLUX-TRANSPORT DYNAMO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78080" y="3659040"/>
            <a:ext cx="476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kpati, de Toma &amp; Gil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to be submitted to Ap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52280" y="40384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15:44:54Z</dcterms:created>
  <dc:creator>Terri A. Cantrell</dc:creator>
  <dc:description/>
  <dc:language>en-US</dc:language>
  <cp:lastModifiedBy>Mausumi Dikpati</cp:lastModifiedBy>
  <dcterms:modified xsi:type="dcterms:W3CDTF">2005-10-13T19:52:27Z</dcterms:modified>
  <cp:revision>163</cp:revision>
  <dc:subject/>
  <dc:title>PowerPoint Presentation</dc:title>
</cp:coreProperties>
</file>